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F27D4-3042-4BE5-ACA2-5873E53230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89D44-B478-4098-9625-24CBFE869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6708B-07E6-42BA-B045-730E6785F0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F16AB-C36F-4823-A442-BB5396EF3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0C82B-04BB-4F57-B1C0-202E7520D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CF268-DF38-4AA0-9E1A-FFBC371F0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6FE35-0FD7-450E-B062-D3AF7682F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F6859-32C7-43F7-8492-D88D052EE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279742-4334-4933-82A3-B66293DB6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214-97A2-45BB-8628-217ABBEDF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ABFD-DADD-41A2-BF77-D74A07FD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084D-8E42-49AC-BF28-D6D739DD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6A0C-FADD-4EC4-B710-79A78F2D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8B98-2415-44BC-9BFC-18730071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C24-05A5-498E-B393-A8FE6874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37D-7F49-4C26-9DAF-E191C312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00B-EFB4-494C-B770-DD1BAEE8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C383-B865-4857-B8F0-59DE4AE6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0FA-A933-4BC2-A1B9-08AF425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E4F-6CB3-4171-90A2-0CFF408A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D77E-0133-4526-8CD0-B83DECFC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07E30-DFE1-4DDE-A2EF-36368335F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3" descr=""/>
          <p:cNvPicPr/>
          <p:nvPr/>
        </p:nvPicPr>
        <p:blipFill>
          <a:blip r:embed="rId1"/>
          <a:stretch/>
        </p:blipFill>
        <p:spPr>
          <a:xfrm>
            <a:off x="42840" y="-42840"/>
            <a:ext cx="9309240" cy="2000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901160" y="2255760"/>
            <a:ext cx="2809800" cy="188136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5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中秋節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760800" y="1874880"/>
            <a:ext cx="1643760" cy="202500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月亮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230480" y="4313160"/>
            <a:ext cx="1447560" cy="246744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餅</a:t>
            </a:r>
            <a:endParaRPr b="0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029480" y="4618080"/>
            <a:ext cx="1232280" cy="20494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賞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6751080" y="4389480"/>
            <a:ext cx="2283840" cy="2049480"/>
          </a:xfrm>
          <a:prstGeom prst="rect">
            <a:avLst/>
          </a:prstGeom>
          <a:gradFill rotWithShape="0">
            <a:gsLst>
              <a:gs pos="0">
                <a:srgbClr val="90ffda"/>
              </a:gs>
              <a:gs pos="100000">
                <a:srgbClr val="e0fff4"/>
              </a:gs>
            </a:gsLst>
            <a:lin ang="162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農曆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1"/>
          <p:cNvGraphicFramePr/>
          <p:nvPr/>
        </p:nvGraphicFramePr>
        <p:xfrm>
          <a:off x="531720" y="1143000"/>
          <a:ext cx="9124920" cy="603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1143000"/>
                    <a:ext cx="912492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Oval 2"/>
          <p:cNvSpPr/>
          <p:nvPr/>
        </p:nvSpPr>
        <p:spPr>
          <a:xfrm>
            <a:off x="8421840" y="1143000"/>
            <a:ext cx="1143000" cy="1143000"/>
          </a:xfrm>
          <a:prstGeom prst="ellipse">
            <a:avLst/>
          </a:prstGeom>
          <a:solidFill>
            <a:srgbClr val="ffffff"/>
          </a:solidFill>
          <a:ln w="54720">
            <a:solidFill>
              <a:srgbClr val="dc2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28480" y="685800"/>
            <a:ext cx="9072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5751360" y="673200"/>
            <a:ext cx="180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710320" y="130320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673600" y="249084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376880" y="249084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116160" y="2455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785960" y="24541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90680" y="24541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8300880" y="126684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969240" y="126684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307800" y="3738600"/>
            <a:ext cx="1683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8300880" y="2455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7005600" y="2455920"/>
            <a:ext cx="13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標楷體"/>
                <a:ea typeface="標楷體"/>
              </a:rPr>
              <a:t>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604880" y="3738600"/>
            <a:ext cx="1683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2901960" y="377496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195800" y="377496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5529240" y="377496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6826320" y="375588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8120160" y="375588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309600" y="494352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1606680" y="4943520"/>
            <a:ext cx="16826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十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2973240" y="4943520"/>
            <a:ext cx="1683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二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4233960" y="5087880"/>
            <a:ext cx="1682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5529240" y="5087880"/>
            <a:ext cx="16826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6829560" y="5056200"/>
            <a:ext cx="1682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8"/>
          <p:cNvSpPr/>
          <p:nvPr/>
        </p:nvSpPr>
        <p:spPr>
          <a:xfrm>
            <a:off x="8161200" y="5092560"/>
            <a:ext cx="1683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349200" y="6243480"/>
            <a:ext cx="16826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0"/>
          <p:cNvSpPr/>
          <p:nvPr/>
        </p:nvSpPr>
        <p:spPr>
          <a:xfrm>
            <a:off x="1646280" y="6245280"/>
            <a:ext cx="1682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1"/>
          <p:cNvSpPr/>
          <p:nvPr/>
        </p:nvSpPr>
        <p:spPr>
          <a:xfrm>
            <a:off x="2941560" y="6245280"/>
            <a:ext cx="16830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2"/>
          <p:cNvSpPr/>
          <p:nvPr/>
        </p:nvSpPr>
        <p:spPr>
          <a:xfrm>
            <a:off x="4237200" y="6243480"/>
            <a:ext cx="168264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5533920" y="6243480"/>
            <a:ext cx="168300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二十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4"/>
          <p:cNvSpPr/>
          <p:nvPr/>
        </p:nvSpPr>
        <p:spPr>
          <a:xfrm>
            <a:off x="6900840" y="6245280"/>
            <a:ext cx="1682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5"/>
          <p:cNvSpPr/>
          <p:nvPr/>
        </p:nvSpPr>
        <p:spPr>
          <a:xfrm>
            <a:off x="565200" y="744480"/>
            <a:ext cx="9144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星期日   星期一   星期二  星期三  星期四  星期五   星期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6"/>
          <p:cNvSpPr/>
          <p:nvPr/>
        </p:nvSpPr>
        <p:spPr>
          <a:xfrm>
            <a:off x="1828800" y="685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7"/>
          <p:cNvSpPr/>
          <p:nvPr/>
        </p:nvSpPr>
        <p:spPr>
          <a:xfrm>
            <a:off x="3164040" y="685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8"/>
          <p:cNvSpPr/>
          <p:nvPr/>
        </p:nvSpPr>
        <p:spPr>
          <a:xfrm flipV="1">
            <a:off x="4487760" y="673200"/>
            <a:ext cx="1800" cy="48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9"/>
          <p:cNvSpPr/>
          <p:nvPr/>
        </p:nvSpPr>
        <p:spPr>
          <a:xfrm>
            <a:off x="7015320" y="685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0"/>
          <p:cNvSpPr/>
          <p:nvPr/>
        </p:nvSpPr>
        <p:spPr>
          <a:xfrm>
            <a:off x="8300880" y="685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1"/>
          <p:cNvSpPr/>
          <p:nvPr/>
        </p:nvSpPr>
        <p:spPr>
          <a:xfrm>
            <a:off x="8163000" y="6245280"/>
            <a:ext cx="1682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三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2"/>
          <p:cNvSpPr/>
          <p:nvPr/>
        </p:nvSpPr>
        <p:spPr>
          <a:xfrm>
            <a:off x="1954080" y="1260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420e"/>
                </a:solidFill>
                <a:latin typeface="標楷體"/>
                <a:ea typeface="標楷體"/>
              </a:rPr>
              <a:t>二</a:t>
            </a:r>
            <a:r>
              <a:rPr b="0" lang="en-US" sz="5400" spc="-1" strike="noStrike">
                <a:solidFill>
                  <a:srgbClr val="ff420e"/>
                </a:solidFill>
                <a:latin typeface="標楷體"/>
                <a:ea typeface="標楷體"/>
              </a:rPr>
              <a:t>OO</a:t>
            </a:r>
            <a:r>
              <a:rPr b="0" lang="en-US" sz="5400" spc="-1" strike="noStrike">
                <a:solidFill>
                  <a:srgbClr val="ff420e"/>
                </a:solidFill>
                <a:latin typeface="標楷體"/>
                <a:ea typeface="標楷體"/>
              </a:rPr>
              <a:t>九年　十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3" descr=""/>
          <p:cNvPicPr/>
          <p:nvPr/>
        </p:nvPicPr>
        <p:blipFill>
          <a:blip r:embed="rId3"/>
          <a:stretch/>
        </p:blipFill>
        <p:spPr>
          <a:xfrm>
            <a:off x="5559480" y="36360"/>
            <a:ext cx="685800" cy="75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849240" y="3017880"/>
            <a:ext cx="2490840" cy="37353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2"/>
          <p:cNvSpPr/>
          <p:nvPr/>
        </p:nvSpPr>
        <p:spPr>
          <a:xfrm>
            <a:off x="685800" y="117360"/>
            <a:ext cx="89154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中秋節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hōng       qiū            jié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moon festival.jpg"/>
          <p:cNvPicPr/>
          <p:nvPr/>
        </p:nvPicPr>
        <p:blipFill>
          <a:blip r:embed="rId2"/>
          <a:stretch/>
        </p:blipFill>
        <p:spPr>
          <a:xfrm>
            <a:off x="4430880" y="339876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39760" y="2232000"/>
            <a:ext cx="9601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5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月亮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5257800" y="1914480"/>
            <a:ext cx="41338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876240" y="1514520"/>
            <a:ext cx="3238560" cy="3971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4438800" y="4114800"/>
            <a:ext cx="4476600" cy="335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572000" y="457200"/>
            <a:ext cx="480060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月餅</a:t>
            </a:r>
            <a:endParaRPr b="0" lang="en-US" sz="1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519120" y="1333440"/>
            <a:ext cx="459756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賞月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265720" y="922320"/>
            <a:ext cx="44798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16080" y="0"/>
            <a:ext cx="937260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中秋節是在農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</a:t>
            </a:r>
            <a:r>
              <a:rPr b="0" lang="en-US" sz="9600" spc="-1" strike="noStrike" u="sng">
                <a:solidFill>
                  <a:srgbClr val="000000"/>
                </a:solidFill>
                <a:uFillTx/>
                <a:latin typeface="文鼎標準楷體"/>
                <a:ea typeface="文鼎標準楷體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月</a:t>
            </a:r>
            <a:r>
              <a:rPr b="0" lang="en-US" sz="9600" spc="-1" strike="noStrike" u="sng">
                <a:solidFill>
                  <a:srgbClr val="000000"/>
                </a:solidFill>
                <a:uFillTx/>
                <a:latin typeface="文鼎標準楷體"/>
                <a:ea typeface="文鼎標準楷體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日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077840" y="2255760"/>
            <a:ext cx="13716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8800" spc="-1" strike="noStrike">
                <a:solidFill>
                  <a:srgbClr val="2323dc"/>
                </a:solidFill>
                <a:latin typeface="標楷體"/>
                <a:ea typeface="標楷體"/>
              </a:rPr>
              <a:t>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363840" y="2332080"/>
            <a:ext cx="3048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8800" spc="-1" strike="noStrike">
                <a:solidFill>
                  <a:srgbClr val="2323dc"/>
                </a:solidFill>
                <a:latin typeface="標楷體"/>
                <a:ea typeface="標楷體"/>
              </a:rPr>
              <a:t>十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839960" y="4160880"/>
            <a:ext cx="3841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2"/>
          <p:cNvSpPr/>
          <p:nvPr/>
        </p:nvSpPr>
        <p:spPr>
          <a:xfrm>
            <a:off x="2068560" y="42696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月亮是圓的嗎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月亮 </a:t>
            </a:r>
            <a:r>
              <a:rPr b="1" lang="en-US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– </a:t>
            </a: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晚上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很 亮 </a:t>
            </a:r>
            <a:r>
              <a:rPr b="1" lang="en-US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– </a:t>
            </a:r>
            <a:r>
              <a:rPr b="1" lang="zh-CN" sz="6600" spc="-1" strike="noStrike">
                <a:solidFill>
                  <a:srgbClr val="ff420e"/>
                </a:solidFill>
                <a:latin typeface="文鼎標準楷體"/>
                <a:ea typeface="文鼎標準楷體"/>
              </a:rPr>
              <a:t>好 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687680" y="3703680"/>
            <a:ext cx="244944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Rectangle 3" descr=""/>
          <p:cNvPicPr/>
          <p:nvPr/>
        </p:nvPicPr>
        <p:blipFill>
          <a:blip r:embed="rId1"/>
          <a:stretch/>
        </p:blipFill>
        <p:spPr>
          <a:xfrm>
            <a:off x="1311120" y="66600"/>
            <a:ext cx="7961400" cy="1884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moon cakesis 3.jpg"/>
          <p:cNvPicPr/>
          <p:nvPr/>
        </p:nvPicPr>
        <p:blipFill>
          <a:blip r:embed="rId2"/>
          <a:stretch/>
        </p:blipFill>
        <p:spPr>
          <a:xfrm>
            <a:off x="1230480" y="2484360"/>
            <a:ext cx="3203280" cy="2352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moon cakesis 2.jpg"/>
          <p:cNvPicPr/>
          <p:nvPr/>
        </p:nvPicPr>
        <p:blipFill>
          <a:blip r:embed="rId3"/>
          <a:stretch/>
        </p:blipFill>
        <p:spPr>
          <a:xfrm>
            <a:off x="6031080" y="2255760"/>
            <a:ext cx="2533320" cy="263700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7" descr=""/>
          <p:cNvPicPr/>
          <p:nvPr/>
        </p:nvPicPr>
        <p:blipFill>
          <a:blip r:embed="rId4"/>
          <a:stretch/>
        </p:blipFill>
        <p:spPr>
          <a:xfrm>
            <a:off x="-36360" y="5072040"/>
            <a:ext cx="106311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3T02:17:29Z</dcterms:created>
  <dc:creator/>
  <dc:description/>
  <dc:language>en-US</dc:language>
  <cp:lastModifiedBy>Monica</cp:lastModifiedBy>
  <dcterms:modified xsi:type="dcterms:W3CDTF">2009-11-16T19:54:32Z</dcterms:modified>
  <cp:revision>3</cp:revision>
  <dc:subject/>
  <dc:title>Slide 1</dc:title>
</cp:coreProperties>
</file>